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447-1852-403F-96F6-CC869AFD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FF1-C13B-44B4-8B5C-99F159F4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65C-DD96-402A-A5A8-A997EE3F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9B7-E812-42D4-8657-2FB8BED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00F-54E0-4AF7-B9FA-B16E0BB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C86-530F-485A-9D0D-5D22BD9E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9BA-B010-476E-91B2-46E80D03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67B-3314-4DCC-B45F-05E04A5C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25B-0EB9-481A-B06C-399B8ACA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9B3-CB99-4456-8496-BE9E557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CDF-4C4E-4FE7-8BF6-F9713FA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403-737A-47BA-8EEF-E3524A1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02E-5AE3-4E42-AFB6-317A8FF0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763120" cy="6324480"/>
          </a:xfrm>
          <a:prstGeom prst="rect">
            <a:avLst/>
          </a:prstGeom>
          <a:solidFill>
            <a:srgbClr val="9999ff"/>
          </a:solidFill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6553440" cy="4365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4952880"/>
            <a:ext cx="838224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53341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The Top 10 Basics of  Special Education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743200"/>
            <a:ext cx="2743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is measured and reported t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5257800" cy="36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8080" y="2465280"/>
            <a:ext cx="48769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05740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is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20574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10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re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895480"/>
            <a:ext cx="2743200" cy="3657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28800" y="3124080"/>
            <a:ext cx="2182680" cy="32767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4267080" y="1905120"/>
            <a:ext cx="0" cy="47242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895480"/>
            <a:ext cx="2514600" cy="3657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495680" y="3124080"/>
            <a:ext cx="2133720" cy="3276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267080" y="1905120"/>
            <a:ext cx="0" cy="47242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 4.99537E-006 L 0 4.99537E-006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752480"/>
            <a:ext cx="29718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8088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91120" y="457200"/>
            <a:ext cx="761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43828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uess what 5 acronyms are 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important, they made thi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25844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685800"/>
            <a:ext cx="3886200" cy="5638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8088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514600"/>
            <a:ext cx="3352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es, please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ring me the alphabet sou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3598920" cy="5410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49528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19520" y="2438280"/>
            <a:ext cx="3200400" cy="2057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514600"/>
            <a:ext cx="2895480" cy="190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752480"/>
            <a:ext cx="1438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EP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525780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FAP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477120" y="51814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L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05320" y="31240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D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324480" y="190512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TA&amp;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33360" y="4114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209320" y="2361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2670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43200" y="45720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8120" y="2590920"/>
            <a:ext cx="289548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04920" y="3808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487692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I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dividuals with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D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sabilities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6386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Our nation’s special educati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289548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04920" y="3808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487692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F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ree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ppropriate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P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ublic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7150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What States must make available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to all eligible children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057400"/>
            <a:ext cx="289584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590920"/>
            <a:ext cx="2133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FA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8288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3434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160" indent="-2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ast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strictive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105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28600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L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4864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Children with disabilities are to be educated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with children who do not have disabilities,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to the maximum extent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05920" cy="5584680"/>
          </a:xfrm>
          <a:prstGeom prst="rect">
            <a:avLst/>
          </a:prstGeom>
          <a:ln w="7632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0360" y="22050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I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dividualized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P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029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3341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very public school child with disabilities receiving IDEA-funded special education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ust ha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2666880"/>
            <a:ext cx="2133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I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000" spc="-1" strike="noStrike">
                <a:solidFill>
                  <a:srgbClr val="000099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in the special edu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143000"/>
            <a:ext cx="3733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7652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781680" y="396252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38480" y="274320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733920"/>
            <a:ext cx="2514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ny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50292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ter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8288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0384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080" indent="-1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T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chnical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ssistance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 &amp;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D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ssemin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638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7913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Need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36232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TA</a:t>
            </a:r>
            <a:r>
              <a:rPr b="0" lang="en-US" sz="4000" spc="-1" strike="noStrike">
                <a:solidFill>
                  <a:srgbClr val="cc6600"/>
                </a:solidFill>
                <a:latin typeface="Jester"/>
              </a:rPr>
              <a:t>&amp;</a:t>
            </a: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505320" y="762120"/>
            <a:ext cx="2743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8600" y="228600"/>
            <a:ext cx="3047760" cy="3733560"/>
            <a:chOff x="228600" y="228600"/>
            <a:chExt cx="3047760" cy="3733560"/>
          </a:xfrm>
        </p:grpSpPr>
        <p:sp>
          <p:nvSpPr>
            <p:cNvPr id="200" name=""/>
            <p:cNvSpPr/>
            <p:nvPr/>
          </p:nvSpPr>
          <p:spPr>
            <a:xfrm>
              <a:off x="228600" y="228600"/>
              <a:ext cx="3047760" cy="3733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304560" y="304560"/>
              <a:ext cx="2860920" cy="350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103560" cy="4643280"/>
          </a:xfrm>
          <a:prstGeom prst="rect">
            <a:avLst/>
          </a:prstGeom>
          <a:ln w="5724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553080" y="304920"/>
            <a:ext cx="2352960" cy="3657600"/>
          </a:xfrm>
          <a:prstGeom prst="rect">
            <a:avLst/>
          </a:prstGeom>
          <a:ln w="381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4445280" cy="295596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49000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19520" y="2438280"/>
            <a:ext cx="3200400" cy="2057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514600"/>
            <a:ext cx="2895480" cy="190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1752480"/>
            <a:ext cx="1438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EP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8080" y="525780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FAP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477120" y="51814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L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05320" y="31240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D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190512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TA&amp;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133360" y="4114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209320" y="2361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1500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743200" y="45720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86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880" indent="-28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1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identified as possibly needing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10080" y="2209680"/>
            <a:ext cx="2787840" cy="41911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880" indent="-28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tep 1.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Child is identified as possibly needing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572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2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684520" cy="40384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133720"/>
            <a:ext cx="297180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2096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is dec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8098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ents are part of the group that decides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905120"/>
            <a:ext cx="0" cy="441936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66680" y="2286000"/>
            <a:ext cx="263232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14400" y="2057400"/>
            <a:ext cx="3198960" cy="4419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</p:spTree>
  </p:cSld>
  <p:transition spd="slow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514600"/>
            <a:ext cx="4343400" cy="2895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2133720"/>
            <a:ext cx="3886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tep 3.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Eligibility is dec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51814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found eligible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1148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200400"/>
            <a:ext cx="0" cy="1752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4047840" cy="2590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4038480" cy="26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2133720"/>
            <a:ext cx="4876560" cy="411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819520"/>
            <a:ext cx="1828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meeting is schedu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419720"/>
            <a:ext cx="16002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4572000"/>
            <a:ext cx="129528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4724280"/>
            <a:ext cx="1066680" cy="0"/>
          </a:xfrm>
          <a:prstGeom prst="line">
            <a:avLst/>
          </a:prstGeom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4572000" cy="3811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2133720"/>
            <a:ext cx="7162560" cy="3429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meeting is held, and the IEP is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4876920" cy="3248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590920" y="22860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362320"/>
            <a:ext cx="0" cy="2666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590920"/>
            <a:ext cx="0" cy="228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74320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971800"/>
            <a:ext cx="0" cy="1600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133720"/>
            <a:ext cx="7162560" cy="3429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15200" y="22860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86600" y="2362320"/>
            <a:ext cx="0" cy="2666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2590920"/>
            <a:ext cx="0" cy="228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553080" y="274284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48520" y="2971440"/>
            <a:ext cx="0" cy="1600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4419360" cy="2949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6:41:37Z</dcterms:created>
  <dc:creator>Lisa Kupper</dc:creator>
  <dc:description/>
  <dc:language>en-US</dc:language>
  <cp:lastModifiedBy>Erik</cp:lastModifiedBy>
  <dcterms:modified xsi:type="dcterms:W3CDTF">2009-04-16T15:19:54Z</dcterms:modified>
  <cp:revision>483</cp:revision>
  <dc:subject/>
  <dc:title>History of IDEA</dc:title>
</cp:coreProperties>
</file>